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0DB-B67A-49D2-A537-8618FFB1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B04-F666-499B-B021-6C1DEDE3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CCA-C15C-4016-81F2-7B8DC395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A85-D4DA-41AE-BA8F-E8EF2A77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38F-0EAE-4ADB-A44A-A7D10A8D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B18-1D32-4461-960B-2FD70E6B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1BB-BEAC-4260-9F53-AA4D9A5C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1D8-E9C5-4306-B67A-E9618A0D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F3C-B521-49BA-95AE-1AEA9FC1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7F4-0A07-44EC-8F82-6C20A5C6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859-07EF-46C6-B90B-4E86D612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52E-DD28-4344-B197-B1BCC09A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DF4D-C114-439C-8C5F-CD4FAA2B8AE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標楷體"/>
              </a:rPr>
              <a:t>Bluetooth To RS-232 –One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720" y="2565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24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112536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93080" y="2060640"/>
          <a:ext cx="86364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2060640"/>
                    <a:ext cx="8636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flipV="1" rot="10800000">
            <a:off x="3995280" y="1844640"/>
            <a:ext cx="1295640" cy="5047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1152360" cy="804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627280" y="1773360"/>
            <a:ext cx="1008000" cy="92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1956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100800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6588000" y="2205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197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o one -  plug and play , do not  modify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4880" y="2708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-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11960" y="27082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-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11120" y="395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849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4292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39640" y="2997360"/>
            <a:ext cx="3961080" cy="3430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6000" y="4437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714920" y="2997360"/>
            <a:ext cx="39607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67640" y="2492280"/>
          <a:ext cx="86364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2492280"/>
                    <a:ext cx="8636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187280" y="189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標楷體"/>
              </a:rPr>
              <a:t>   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標楷體"/>
              </a:rPr>
              <a:t>Bluetooth USB Dong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924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4520" y="170028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luetooth USB Do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1152360" cy="804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616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10800000">
            <a:off x="3924360" y="2421000"/>
            <a:ext cx="1295280" cy="5047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100836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5367240" y="3357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-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4160" y="3141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263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2565360"/>
            <a:ext cx="36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852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7600" y="335772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USB Do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907920"/>
            <a:ext cx="820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227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95480" y="4024440"/>
            <a:ext cx="73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luetooth Dongle like a master role , Install the driver to the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Run  &amp; can find the bluetooth device at you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Key-in the pincode and Dongle can connect with bluetooth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4880" y="532116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ote : Most of Notebook , PDA &amp; Mobile smart Phone have built-in blue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it also can  find the Bluetooth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11527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667640" y="4797360"/>
          <a:ext cx="863640" cy="2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4797360"/>
                    <a:ext cx="8636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187280" y="189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標楷體"/>
              </a:rPr>
              <a:t>Bluetooth To RS-232 –wire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134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8720" y="26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24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12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S-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96360" y="3284640"/>
          <a:ext cx="863280" cy="24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96360" y="3284640"/>
                    <a:ext cx="86328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 rot="10800000">
            <a:off x="3995280" y="2851560"/>
            <a:ext cx="1295640" cy="50508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557360"/>
            <a:ext cx="1584360" cy="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56360" y="1413000"/>
          <a:ext cx="863640" cy="24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56360" y="1413000"/>
                    <a:ext cx="86364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7236000" y="126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042920" y="2997360"/>
            <a:ext cx="1152720" cy="804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627280" y="2852640"/>
            <a:ext cx="100800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2124000" y="3357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5940360" y="2852640"/>
            <a:ext cx="100800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020000" y="3357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88560" y="1197000"/>
            <a:ext cx="27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RS-232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560" y="22240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ne to 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11440" y="38084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luetooth-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70880" y="386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luetooth-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6720" y="424008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3. With Bluetooth USB Do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1187280" y="4653000"/>
            <a:ext cx="1152720" cy="804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3080" y="4797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0800000">
            <a:off x="3851280" y="4723200"/>
            <a:ext cx="1295280" cy="50508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5867280" y="4437000"/>
            <a:ext cx="100836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654880" y="551664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-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2880" y="4365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941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486900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3600" y="54450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USB Do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0:09:05Z</dcterms:created>
  <dc:creator>MC SYSTEM</dc:creator>
  <dc:description/>
  <dc:language>en-US</dc:language>
  <cp:lastModifiedBy>ox01ox01</cp:lastModifiedBy>
  <dcterms:modified xsi:type="dcterms:W3CDTF">2011-04-27T12:51:00Z</dcterms:modified>
  <cp:revision>28</cp:revision>
  <dc:subject/>
  <dc:title>投影片 1</dc:title>
</cp:coreProperties>
</file>